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260-871E-4FC6-B70F-A490B597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77F-F3C9-431F-ACCB-C9204C47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8AD-D11A-4FBC-AF32-66901531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6F1-E5F4-4A40-B876-A3648C32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7132-58B9-4064-BC11-50885CBD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A20-D62E-42A6-833F-D9CF2D83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980D-04A4-4CCC-9D2C-BC824E2C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CC6-73B2-437D-BDFC-D5EC3832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EA3-48DC-4E03-97FC-3671B25D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CE7-4027-46E5-B9EE-415F80F2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46C-E5C8-4BBF-80FC-EA49F9A0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2FC-8F09-4A7E-AFC6-AE86FDDE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B7D0-3AF0-4471-A8D3-5F60046903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00"/>
                </a:solidFill>
                <a:latin typeface="Comic Sans MS"/>
              </a:rPr>
              <a:t>First Grade High Frequency Words….List 2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littl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very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us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bee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ou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bu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you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from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pu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man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00"/>
                </a:solidFill>
                <a:latin typeface="Arial"/>
              </a:rPr>
              <a:t>was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4" marL="1828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wha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he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saw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play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who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after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with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now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hav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are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into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that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said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00"/>
                </a:solidFill>
                <a:latin typeface="Arial"/>
              </a:rPr>
              <a:t>away</a:t>
            </a:r>
            <a:endParaRPr b="0" lang="en-US" sz="72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30:20Z</dcterms:created>
  <dc:creator>JEacott</dc:creator>
  <dc:description/>
  <dc:language>en-US</dc:language>
  <cp:lastModifiedBy>Jennifer Dalton</cp:lastModifiedBy>
  <dcterms:modified xsi:type="dcterms:W3CDTF">2011-10-31T11:31:44Z</dcterms:modified>
  <cp:revision>6</cp:revision>
  <dc:subject/>
  <dc:title>Word List 2</dc:title>
</cp:coreProperties>
</file>